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F688-59B1-4472-AA8E-E33F509DA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95120" y="4267080"/>
            <a:ext cx="617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95120" y="4545720"/>
            <a:ext cx="617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9C1A-1859-492B-885D-8D88B054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95120" y="4267080"/>
            <a:ext cx="3011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57720" y="4267080"/>
            <a:ext cx="3011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95120" y="4545720"/>
            <a:ext cx="3011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57720" y="4545720"/>
            <a:ext cx="3011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E1D6-3729-4C19-BBAF-A864045DC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95120" y="4267080"/>
            <a:ext cx="1987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82040" y="4267080"/>
            <a:ext cx="1987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68960" y="4267080"/>
            <a:ext cx="1987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95120" y="4545720"/>
            <a:ext cx="1987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982040" y="4545720"/>
            <a:ext cx="1987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68960" y="4545720"/>
            <a:ext cx="1987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519D-4BD0-42AC-AF65-569247C7F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884A-A0EF-42DE-8280-3757AD0C5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95120" y="42670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0B64-8CC1-4740-BABB-70BB1DB9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95120" y="42670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4407-728B-471C-989A-1F64C11A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95120" y="4267080"/>
            <a:ext cx="30117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057720" y="4267080"/>
            <a:ext cx="30117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C27A-8767-4AA6-A389-1D7CE9F9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B39E-7401-47E3-8167-DB055150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657600" y="2514600"/>
            <a:ext cx="541008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3D37-5F59-4891-AE12-617ACC18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95120" y="4267080"/>
            <a:ext cx="3011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57720" y="4267080"/>
            <a:ext cx="30117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95120" y="4545720"/>
            <a:ext cx="3011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F289-134B-48FA-B3DA-E3261000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95120" y="42670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3658-9B4D-4485-B4B1-35483933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95120" y="4267080"/>
            <a:ext cx="30117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057720" y="4267080"/>
            <a:ext cx="3011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57720" y="4545720"/>
            <a:ext cx="3011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421F-FA8B-45FD-8E21-615C8EE8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95120" y="4267080"/>
            <a:ext cx="3011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57720" y="4267080"/>
            <a:ext cx="3011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95120" y="4545720"/>
            <a:ext cx="617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62D5-BA63-4B60-A175-AD4B644F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95120" y="4267080"/>
            <a:ext cx="617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95120" y="4545720"/>
            <a:ext cx="617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C88B-A8D3-4C08-AA92-A802E1FC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5120" y="4267080"/>
            <a:ext cx="3011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57720" y="4267080"/>
            <a:ext cx="3011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95120" y="4545720"/>
            <a:ext cx="3011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057720" y="4545720"/>
            <a:ext cx="3011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FA01-1AB9-46A3-AAB3-D9C684CCD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95120" y="4267080"/>
            <a:ext cx="1987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82040" y="4267080"/>
            <a:ext cx="1987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68960" y="4267080"/>
            <a:ext cx="1987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95120" y="4545720"/>
            <a:ext cx="1987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982040" y="4545720"/>
            <a:ext cx="1987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68960" y="4545720"/>
            <a:ext cx="1987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9FFB-3BB2-42AD-8C63-90DA5A00D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95120" y="42670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65E1-93E0-4671-B38E-59C88EBC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95120" y="4267080"/>
            <a:ext cx="30117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57720" y="4267080"/>
            <a:ext cx="30117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AAD7-0355-4D4A-ACD7-98FC1809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F9C8-D722-4B1D-BE8F-9C5E963A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57600" y="2514600"/>
            <a:ext cx="541008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2D12-F78F-4094-A126-52429BC3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95120" y="4267080"/>
            <a:ext cx="3011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57720" y="4267080"/>
            <a:ext cx="30117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95120" y="4545720"/>
            <a:ext cx="3011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3DCB-53EB-498E-B98B-1469EC51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95120" y="4267080"/>
            <a:ext cx="30117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57720" y="4267080"/>
            <a:ext cx="3011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57720" y="4545720"/>
            <a:ext cx="3011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5B98-58F1-48AB-B8D1-31B91296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95120" y="4267080"/>
            <a:ext cx="3011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57720" y="4267080"/>
            <a:ext cx="3011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95120" y="4545720"/>
            <a:ext cx="617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BCC1-13E1-42EA-8169-11CCD72D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Click to edit the outline text format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econd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Third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Four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Fif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ix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even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cf48c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f48c"/>
                </a:solidFill>
                <a:latin typeface="Impact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cf48c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f48c"/>
                </a:solidFill>
                <a:latin typeface="Impact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cf48c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B293-CE56-4FCA-AB6F-E5B1ED700C51}" type="slidenum">
              <a:rPr b="0" lang="en-US" sz="1000" spc="-1" strike="noStrike">
                <a:solidFill>
                  <a:srgbClr val="fcf48c"/>
                </a:solidFill>
                <a:latin typeface="Impact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7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cf48c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f48c"/>
                </a:solidFill>
                <a:latin typeface="Impac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cf48c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f48c"/>
                </a:solidFill>
                <a:latin typeface="Impact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cf48c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CAE6-7183-414A-B70F-C0B745CC2E4C}" type="slidenum">
              <a:rPr b="0" lang="en-US" sz="1000" spc="-1" strike="noStrike">
                <a:solidFill>
                  <a:srgbClr val="fcf48c"/>
                </a:solidFill>
                <a:latin typeface="Impac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Click to edit the outline text format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48c"/>
                </a:solidFill>
                <a:latin typeface="Trebuchet MS"/>
              </a:rPr>
              <a:t>Second Outline Level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cf48c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48c"/>
                </a:solidFill>
                <a:latin typeface="Trebuchet MS"/>
              </a:rPr>
              <a:t>Third Outline Level</a:t>
            </a:r>
            <a:endParaRPr b="1" lang="en-US" sz="2400" spc="-1" strike="noStrike">
              <a:solidFill>
                <a:srgbClr val="fcf48c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cf48c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48c"/>
                </a:solidFill>
                <a:latin typeface="Trebuchet MS"/>
              </a:rPr>
              <a:t>Fourth Outline Level</a:t>
            </a:r>
            <a:endParaRPr b="1" lang="en-US" sz="2000" spc="-1" strike="noStrike">
              <a:solidFill>
                <a:srgbClr val="fcf48c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cf48c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48c"/>
                </a:solidFill>
                <a:latin typeface="Trebuchet MS"/>
              </a:rPr>
              <a:t>Fifth Outline Level</a:t>
            </a:r>
            <a:endParaRPr b="1" lang="en-US" sz="2000" spc="-1" strike="noStrike">
              <a:solidFill>
                <a:srgbClr val="fcf48c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48c"/>
                </a:solidFill>
                <a:latin typeface="Trebuchet MS"/>
              </a:rPr>
              <a:t>Sixth Outline Level</a:t>
            </a:r>
            <a:endParaRPr b="1" lang="en-US" sz="2000" spc="-1" strike="noStrike">
              <a:solidFill>
                <a:srgbClr val="fcf48c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48c"/>
                </a:solidFill>
                <a:latin typeface="Trebuchet MS"/>
              </a:rPr>
              <a:t>Seventh Outline Level</a:t>
            </a:r>
            <a:endParaRPr b="1" lang="en-US" sz="20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57600" y="25146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120" y="42670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4T01:49:37Z</dcterms:created>
  <dc:creator>Bonnie Ritchey</dc:creator>
  <dc:description/>
  <dc:language>en-US</dc:language>
  <cp:lastModifiedBy>Bonnie Ritchey</cp:lastModifiedBy>
  <dcterms:modified xsi:type="dcterms:W3CDTF">2004-06-14T01:50:17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921033</vt:lpwstr>
  </property>
</Properties>
</file>